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EF4142-7942-453C-8412-695276DC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sson 5.  In this session we will be covering how to create new variables in the data step including using SAS functions.  These topics will be illustrated in programs 5 and 6.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PROC FREQ results for the new and original variables. You should always have the same number of missing values – as you see here there are 8. If they are different there is reason to think your code to define the new variable is incorr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to show how easy it is to make a mistake in your coding. Do you see what happened here? Why are there so many missing values for the new variable and why are there no values of 2.  Look up at the code. There is an error in the third line of the statement where I typed sbp12 = 2 instead of sbp12c =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not get an error, warning, or note in the SAS log. You would just have to go back and look at your code. That is why it is good practice to make your code very read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rror also points out the fact that if/then coding is very flexible, it is not just for creating new variables. In the example above we actually “wrote over” the variable sbp12 which is allowed in S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important facts when creating new variables, in particular when using IF-THEN-ELSE logic.  First, new variables are initialized to missing; so if none of your IF statements are true when defining the new variable then the new variable will be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missing value are less than any value; thus every IF statement of the form IF var &lt; value will be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reference missing numeric variables with a period (.) and missing character variables with a blank (enclosed by quotes). There is also a missing function which you can use to reference missing values whether the variable is character or numeri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how SAS handles missing data when creating new variables. With direct assignments, i.e. a formula, there is no worry about missing values since if any variable on the right-hand side of the equation is missing then the new variable will be missing.  This is what you would usually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direct statements you need to be careful using the less than (&lt;) or less than or equal to (&lt;=) operators. Avoid this problem by using a compound IF (and variable ne .) or using a separate IF in the beginning to take care of missing values (see example from before to see how this was do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hen you code a new variable into 2 levels it does not matter what 2 values you use. In the example here the first coding assigns for teenager a value of 1 and 2; the second example uses 1 and 0; the third example defines teenager as a character variable and assigns values of YES an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vantages to each. Coding as 1 or 2 will display the affirmative level (the YES value) first in a PROC FREQ (coding 1 or 0 or YES and NO will display the opposite order). Using 0/1 coding has the advantage in that running PROC MEANS on the variable will display the fraction of YES’s in the MEAN statistic and the number of YES’s in the SUM statistic. This can be useful when you have many YES/NO variables. It is also a useful coding when you are using the variable as a dummy or indicator variable in regression analyses (Note coding as 0 and 100 would give you the percent rather than the fraction when using PROC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haracter variables to represent the categories is usually not a good practice. For example, you could not use PROC MEANS for this variable or use the variable in a regression equation.  It is better to assign them as numeric and use a format, if desired, to clarify the val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go on to program 6 of the course. This program will illustrate several functions that can be used to create new variables in the DATA ste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ad-in height, weight, urinary sodium excretion, and the first 10 side-effect variables. We first create a new variable bmi based on height and weight. The ROUND function is then used to round  bmi to the nearest integer; it has an optional second parameter that tells SAS to what decimal level to round the variable. The variable rbmi2 will be rounded to the nearest tenth.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use the LOG function to compute a new variable that is the natural log of the variable ursod. This type of transformation is often used to make the variable more closely follow a normal distribution which is an assumption for some statistical tes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EAN, MIN, and MAX function illustrated here can be very useful. The MEAN function computes the average of all non-missing values in the list of variables enclosed in parenthesis. If the variables in the list have a common root in their name, followed by a number, you can use the shorthand notation as shown here. If you use this shorthand notation you need to preface the list with the keyword OF. This tells SAS that what follows is a list of variables and not the numerical difference between two variabl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EAN function is used here to compute an average side-effect score, the average of the 10 side-effect variables. You can then compare treatment groups for this (summary) variable, in replace of or in addition to comparing groups for  each of the individual side-effect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AX function here is used to compute the “worst” level of side effect in the list (the highest value). You may want, for example, to display patients that have a value of 4 for this varia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IN function does not have much utility here but would be useful, if say the list of variables was the times for a person to complete a race. The MIN function would result in the fastest (lowest) time.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e MEAN function and using the dash notation. Using the dash notation in the list of variables is equivalent to listing each variable separated by a comma. The two statements here will produce the same results. Note again the OF is very important. Without it you will get something very un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is notation the root of the name must be the sam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question is how does the mean function compare to using the formula for the mean.  The code for each of these using the side-effect data is show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you may think these two methods are equivalent. However, if any variable in the list has a missing value they will not yield the same result. This is because the MEAN function computes the average of all non-missing variables in the list. The result will be missing only if all the variables in the list are missing. Using the formula for the mean will result in a missing value if any variable in the list is missing (Remember – if any variable on the right hand side of a formula is missing the new variable will be mi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may want to require a certain number of variables in the list to be non-missing in order to compute the mean. You can accomplish this easily with an IF statement and the N function as shown here. What does this statement do?  It will compute the mean of the 10 items only if more than 5 of the items are non-missing. Otherwise the result will be missing. The N function counts the number of non-missing variables in the list. There is a corresponding NMISS function which counts the number of missing values in a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run a PROC PRINT to display some of our new variables created, a PROC FREQ to display the frequency of the worst side-effect, a PROC MEANS on the new side-effect variables, and a PROC UNIVARIATE to compare the untransformed and log-transformed urinary sodium variab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see the 3 BMI variables, the second rounding the value to the nearest integer and the third rounding to the nearest te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se 10 patients, patient 10 has the highest side-effect score (1.7). Patient 1 has a semax value of 2 meaning he or she had at least one side-effect value of 2 but no values of 3 or 4.</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ow you create new variables in the DATA step - variables that would be then included on the SAS dataset created. There are two types or ways of creating new variables. The first is what I call direct assignments. You put the new variable name followed by an equals sign followed by the formula. Here we see three examples; the last one we have seen before when defining body mass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re is no direct formula; for example when dividing a variable into levels based on cut-points. To do that you will need to use indirect assignments using if statements or if-then-else statements. Here are two examples, one dividing age into two categories and one dividing income into thre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ee how SAS processes these statements nex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distribution for semax shows that 2 patients had at least 1 side-effect that was severe.  This distribution perhaps could be compared between the placebo and drug group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ormal probability (QQ) plot for the untransformed urinary sodium excretion. The pattern of the points do not follow a straight line so the data does not follow a normal distribution very well. The log-transformed values fit a line much better. You may want to use the log-transformed in any analy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irect statements is rather easy: on the left-hand-side of the equation is the new variable you are creating; on the right hand side is the arithmetic expression using conventional symbols. Here we define c as “a + b” so if a=2 and b=3 then c will be equal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a or b (or both a and b) are missing?  What does SAS assign the new variable c?   Well, SAS sets the variable as perhaps you would expect – it will set C to miss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an example of using if-then-else statements to create a new variable. The important thing to remember with these statements is that SAS will stop executing the if statements after the first true statement is encount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happens when income equals 10? Well, the first if statement will be true so the variable tax will be set to 1. Notice the second if statement is also true; however; as indicated, SAS stops executing the statements when the first statement is true (here when income is less than 15) so the second statement is not execu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ing through the logic you will note that when income is 23 then tax will be set to 2 (the second if statement is the first true statement) and when income is 30 then tax will be set to 3 (the last if statement is the first true stat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f income is missing, what then is the value of tax? It turns out that the variable tax will be set to 1 because missing values are stored as large negative numbers – so the first statement is true when income is missing. This is an important thing to remember when using if-then-else statements to create new variables. So our code here is not exactly what we would w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look at other examples and how to deal with missing data when creating new variables in the next program.</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MHS data on education level was collected as shown here. There are 9 categories of education. Suppose you want to do some analyses combining categories so that there are just 2 levels: college graduate and non-college graduate. To do this you would create a new variable, say called grad, based on the original variable for education. The new variable would have two levels, one value for college graduates and another value for non college graduates. A look at the values for education would indicate that values of 7-9 need to be combined to indicate a college graduate and values of 1-6 need to be combined to indicate  a non-college graduate. If the data were missing for education we would want the new variable to also be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ways to create such a new variable.  We will look at them in Program 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920" y="4416120"/>
            <a:ext cx="5608800" cy="48798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begins by reading in three variables from the TOMHS dataset; variables for patient ID, education, and systolic BP.  New variables are defined after the input statement as seen here, i.e. you cannot create a new variable based on education until education is read-i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create three new variables to represent college degree status to illustrate the different ways to accomplish this and to show the problems that can occur. Each is going to use IF-THEN-ELSE stat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way defines the variable grad1. If the value for education (variable educ) is less than 7 then grad1 is assigned a value of 2; else if the value of educ is 7 or greater then grad1 is assigned a value of 1. (Note: It does not really matter what 2 values we choose for grad1, just that the values are different. I will talk more on this later). There is only one problem with this syntax: if educ is missing then grad1 is assigned a value of 2. This is because, as noted before, missing values are stored internally by SAS as a large negative value. So the statement educ &lt; 7 is true if educ is missing. We do not want to do this so we have to do a little more cod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place the first if statement with a compound if statement as seen above (if educ &lt; 7 and educ ne .) we solve the problem. How so? Well, if educ is missing then both IF statements that define grad2 will be false (check this out yourself). Thus grad2 will never be assigned a value through these IF statements and since new variables start out as missing, then grad2 will be (or rather stay) miss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3rd way we use the IN function. If educ is “in” any of the listed values the statement will be true. This is a great way to define new variables if the original variable takes on integer values and there are not too many of them. Missing values for educ will not be assigned a value for grad3 because both if statements are false if education is miss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eck that our coding did what we wanted it to do, we can run a PROC FREQ on each of the new variables along with the original education variable. There is one person missing education. For grad1 note there are no missing observations. That is because the observation with education missing got coded as a 2 for grad1.by the way we defined the variable. The coding for grad2 took care of missing data properly so you get the correct coding. The variable grad3 which was defined using the IN function also produces the correct co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splaying the frequency for the original variable and the new variable we can somewhat check our work. We can see that the sum of the first 6 levels for education equals the number for category 2 for the variable grad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est way to verify your recoding is to perform a cross-tabulation of the original and new variable. Here is displayed the distribution of the variable educ cross-tabulated with grad1. The missing option was added to the tables statement of freq procedure to display missing as a separate category. We see that the missing value for educ was assigned a value of 2 for grad1. This would tell us that our coding was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o the same cross-tabulation with the variable grad2 we will see that the assignment for missing values was correct, i.e. missing values for educ get assigned as missing for variable grad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another example – this time dividing a variable into more than two categories. We will take our BP variable and divide it into three categories. We will use IF-THEN-ELSE coding to do this. As indicated before, the way these statements work is that after the first IF part is true the statement will stop. If the IF portion is false then the next if portion will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you can follow the logic for the coding of the new blood pressure variable. Keep in mind that once an IF portion is true the new value will be assigned and the statement will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alue for sbp12 is missing (represented as a period) then the new variable sbp12c is set to missing. If the value is less than 120 (but not missing) then a value of 1 is assigned. If the value is less than 140 (but not missing and not less than 120) then a value if 2 is assigned. Lastly if the value is greater than or equal to 140 (but not missing and not less than 120 and not less than 140) a value of 3 is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notice you need to be very careful in defining new variables using if-then-el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how I lined up the statement. This is for readability and for checking your code. This is a good practice to fol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262C6-A97E-486B-8F3E-3022A43C0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698F7-9379-46BD-AB30-5AF1BDA9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871D0-9ADD-455E-8258-ADA7DC206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E89A2-36E5-4B62-833A-D27E2FC2B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780F-5D2C-40AF-8371-BE62EB20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416D1-1C45-4AA9-8695-B584933C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1CBFE-F76E-415C-8E00-949A99F8F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D17E-7FA6-478A-8B5C-B1C81B95A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0EBA-B81B-4C14-B40A-250BD9F27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196B-4EBB-4D51-BD13-1B077D24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EC10-C906-4B71-B2FC-FADC6A81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3D18-49D1-465D-9D64-5E9ECF328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4A9D-89C2-4585-857F-7106C2250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 4 - Topic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new variables in the data st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S Func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0"/>
            <a:ext cx="8305560" cy="703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tda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sbp12c sbp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SAS Monospace Bold"/>
              </a:rPr>
              <a:t>Cumulative    Cumula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sbp12c    Frequency     Percent     Frequency      Perc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ƒƒƒƒƒƒƒƒƒƒƒƒƒƒƒƒƒƒƒƒƒƒƒƒƒƒƒƒƒƒƒƒƒƒƒƒƒƒƒƒƒƒƒƒƒƒƒƒƒƒƒƒƒƒƒƒƒƒƒ</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1          36       39.13            36        39.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2          43       46.74            79        85.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3          13       14.13            92       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Frequency Missing = 8</a:t>
            </a:r>
            <a:r>
              <a:rPr b="1" lang="en-US" sz="1400" spc="-1" strike="noStrike">
                <a:solidFill>
                  <a:srgbClr val="000000"/>
                </a:solidFill>
                <a:latin typeface="Courier New"/>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SAS Monospace Bold"/>
                <a:ea typeface="Courier New"/>
              </a:rPr>
              <a:t>Cumulative    Cumula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sbp12    Frequency     Percent     Frequency      Perc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ƒƒƒƒƒƒƒƒƒƒƒƒƒƒƒƒƒƒƒƒƒƒƒƒƒƒƒƒƒƒƒƒƒƒƒƒƒƒƒƒƒƒƒƒƒƒƒƒƒ</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93           1        1.09             1         1.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94           1        1.09             2         2.1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1           1        1.09             3         3.2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4           1        1.09             4         4.3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5           1        1.09             5         5.4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more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7           1        1.09            87        94.5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8           1        1.09            88        95.6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9           1        1.09            89        96.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3           1        1.09            90        97.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4           1        1.09            91        98.9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8           1        1.09            92       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Frequency Missing = 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304920"/>
            <a:ext cx="8534520" cy="640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Easy but costly error to ma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 </a:t>
            </a:r>
            <a:r>
              <a:rPr b="1" lang="en-US" sz="2400" spc="-1" strike="noStrike">
                <a:solidFill>
                  <a:srgbClr val="008080"/>
                </a:solidFill>
                <a:latin typeface="Courier New"/>
              </a:rPr>
              <a:t>.</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2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1</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  = </a:t>
            </a:r>
            <a:r>
              <a:rPr b="1" lang="en-US" sz="2400" spc="-1" strike="noStrike">
                <a:solidFill>
                  <a:srgbClr val="008080"/>
                </a:solidFill>
                <a:latin typeface="Courier New"/>
              </a:rPr>
              <a:t>2</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gt;=</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3</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t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sbp12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The FREQ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400" spc="-1" strike="noStrike">
                <a:solidFill>
                  <a:srgbClr val="000000"/>
                </a:solidFill>
                <a:latin typeface="SAS Monospace"/>
              </a:rPr>
              <a:t>Cumulative    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sbp12c      Frequency     Percent     Frequency      Perc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ƒƒƒƒƒƒƒƒƒƒƒƒƒƒƒƒƒƒƒƒƒƒƒƒƒƒƒƒƒƒƒƒƒƒƒƒƒƒƒƒƒƒƒƒƒƒƒƒƒƒƒƒƒƒƒƒƒƒƒƒƒ</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400" spc="-1" strike="noStrike">
                <a:solidFill>
                  <a:srgbClr val="000000"/>
                </a:solidFill>
                <a:latin typeface="SAS Monospace"/>
              </a:rPr>
              <a:t>1          36       73.47            36        73.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400" spc="-1" strike="noStrike">
                <a:solidFill>
                  <a:srgbClr val="000000"/>
                </a:solidFill>
                <a:latin typeface="SAS Monospace"/>
              </a:rPr>
              <a:t>3          13       26.53            49       10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Frequency Missing = 51</a:t>
            </a:r>
            <a:endParaRPr b="0" lang="en-US" sz="1400" spc="-1" strike="noStrike">
              <a:solidFill>
                <a:srgbClr val="000000"/>
              </a:solidFill>
              <a:latin typeface="Times New Roman"/>
            </a:endParaRPr>
          </a:p>
        </p:txBody>
      </p:sp>
      <p:sp>
        <p:nvSpPr>
          <p:cNvPr id="77" name=""/>
          <p:cNvSpPr/>
          <p:nvPr/>
        </p:nvSpPr>
        <p:spPr>
          <a:xfrm>
            <a:off x="228600" y="4419720"/>
            <a:ext cx="81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4952880" y="2514600"/>
            <a:ext cx="3479760" cy="2459160"/>
            <a:chOff x="4952880" y="2514600"/>
            <a:chExt cx="3479760" cy="2459160"/>
          </a:xfrm>
        </p:grpSpPr>
        <p:pic>
          <p:nvPicPr>
            <p:cNvPr id="79" name="" descr=""/>
            <p:cNvPicPr/>
            <p:nvPr/>
          </p:nvPicPr>
          <p:blipFill>
            <a:blip r:embed="rId1"/>
            <a:stretch/>
          </p:blipFill>
          <p:spPr>
            <a:xfrm>
              <a:off x="6705720" y="2514600"/>
              <a:ext cx="1726920" cy="2459160"/>
            </a:xfrm>
            <a:prstGeom prst="rect">
              <a:avLst/>
            </a:prstGeom>
            <a:ln w="0">
              <a:noFill/>
            </a:ln>
          </p:spPr>
        </p:pic>
        <p:sp>
          <p:nvSpPr>
            <p:cNvPr id="80" name=""/>
            <p:cNvSpPr/>
            <p:nvPr/>
          </p:nvSpPr>
          <p:spPr>
            <a:xfrm>
              <a:off x="4952880" y="2895840"/>
              <a:ext cx="2210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come no values of 2 and why so many missing?</a:t>
              </a:r>
              <a:endParaRPr b="0" lang="en-US" sz="1400" spc="-1" strike="noStrike">
                <a:solidFill>
                  <a:srgbClr val="000000"/>
                </a:solidFill>
                <a:latin typeface="Times New Roman"/>
              </a:endParaRPr>
            </a:p>
          </p:txBody>
        </p:sp>
      </p:grpSp>
      <p:sp>
        <p:nvSpPr>
          <p:cNvPr id="81" name=""/>
          <p:cNvSpPr/>
          <p:nvPr/>
        </p:nvSpPr>
        <p:spPr>
          <a:xfrm>
            <a:off x="3886200" y="1828800"/>
            <a:ext cx="2133720" cy="30492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
                                        </p:tgtEl>
                                        <p:attrNameLst>
                                          <p:attrName>style.visibility</p:attrName>
                                        </p:attrNameLst>
                                      </p:cBhvr>
                                      <p:to>
                                        <p:strVal val="visible"/>
                                      </p:to>
                                    </p:set>
                                    <p:anim calcmode="lin" valueType="num">
                                      <p:cBhvr additive="base">
                                        <p:cTn id="19" dur="500" fill="hold"/>
                                        <p:tgtEl>
                                          <p:spTgt spid="81"/>
                                        </p:tgtEl>
                                        <p:attrNameLst>
                                          <p:attrName>ppt_x</p:attrName>
                                        </p:attrNameLst>
                                      </p:cBhvr>
                                      <p:tavLst>
                                        <p:tav tm="0">
                                          <p:val>
                                            <p:strVal val="#ppt_x"/>
                                          </p:val>
                                        </p:tav>
                                        <p:tav tm="100000">
                                          <p:val>
                                            <p:strVal val="#ppt_x"/>
                                          </p:val>
                                        </p:tav>
                                      </p:tavLst>
                                    </p:anim>
                                    <p:anim calcmode="lin" valueType="num">
                                      <p:cBhvr additive="base">
                                        <p:cTn id="2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152280"/>
            <a:ext cx="853452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ant Facts When Creating New Vari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r>
              <a:rPr b="1" lang="en-US" sz="2400" spc="-1" strike="noStrike">
                <a:solidFill>
                  <a:srgbClr val="000000"/>
                </a:solidFill>
                <a:latin typeface="Courier New"/>
              </a:rPr>
              <a:t>	</a:t>
            </a:r>
            <a:r>
              <a:rPr b="1" lang="en-US" sz="2400" spc="-1" strike="noStrike">
                <a:solidFill>
                  <a:srgbClr val="000000"/>
                </a:solidFill>
                <a:latin typeface="Courier New"/>
              </a:rPr>
              <a:t>New variables are initialized to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r>
              <a:rPr b="1" lang="en-US" sz="2400" spc="-1" strike="noStrike">
                <a:solidFill>
                  <a:srgbClr val="000000"/>
                </a:solidFill>
                <a:latin typeface="Courier New"/>
              </a:rPr>
              <a:t>	</a:t>
            </a:r>
            <a:r>
              <a:rPr b="1" lang="en-US" sz="2400" spc="-1" strike="noStrike">
                <a:solidFill>
                  <a:srgbClr val="000000"/>
                </a:solidFill>
                <a:latin typeface="Courier New"/>
              </a:rPr>
              <a:t>Missing values are &lt; any val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ea typeface="MS Sans Serif"/>
              </a:rPr>
              <a:t>if</a:t>
            </a:r>
            <a:r>
              <a:rPr b="1" lang="en-US" sz="2400" spc="-1" strike="noStrike">
                <a:solidFill>
                  <a:srgbClr val="000000"/>
                </a:solidFill>
                <a:latin typeface="Courier New"/>
                <a:ea typeface="MS Sans Serif"/>
              </a:rPr>
              <a:t> var &lt; </a:t>
            </a:r>
            <a:r>
              <a:rPr b="1" lang="en-US" sz="2400" spc="-1" strike="noStrike">
                <a:solidFill>
                  <a:srgbClr val="008080"/>
                </a:solidFill>
                <a:latin typeface="Courier New"/>
                <a:ea typeface="MS Sans Serif"/>
              </a:rPr>
              <a:t>value</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rue if var is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rPr>
              <a:t>	</a:t>
            </a:r>
            <a:r>
              <a:rPr b="1" lang="en-US" sz="2400" spc="-1" strike="noStrike">
                <a:solidFill>
                  <a:srgbClr val="000000"/>
                </a:solidFill>
                <a:latin typeface="Courier New"/>
              </a:rPr>
              <a:t>Reference missing values for numeric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riables 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r>
              <a:rPr b="1" lang="en-US" sz="2400" spc="-1" strike="noStrike">
                <a:solidFill>
                  <a:srgbClr val="000000"/>
                </a:solidFill>
                <a:latin typeface="Courier New"/>
              </a:rPr>
              <a:t>	</a:t>
            </a:r>
            <a:r>
              <a:rPr b="1" lang="en-US" sz="2400" spc="-1" strike="noStrike">
                <a:solidFill>
                  <a:srgbClr val="000000"/>
                </a:solidFill>
                <a:latin typeface="Courier New"/>
              </a:rPr>
              <a:t>Reference missing values for character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riables as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sbp = . then ... (or if missing(sb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clinic = ' ' the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 Handling of Missing Data When Creating New Variables</a:t>
            </a:r>
            <a:endParaRPr b="0" lang="en-US" sz="2800" spc="-1" strike="noStrike">
              <a:solidFill>
                <a:srgbClr val="000000"/>
              </a:solidFill>
              <a:latin typeface="Times New Roman"/>
            </a:endParaRPr>
          </a:p>
        </p:txBody>
      </p:sp>
      <p:sp>
        <p:nvSpPr>
          <p:cNvPr id="84"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irect assignments(formulas):</a:t>
            </a:r>
            <a:endParaRPr b="0" lang="en-US" sz="24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 a + b ;</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2*a + 3*b + 7*c ;</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mi = weight/(height*height);</a:t>
            </a:r>
            <a:endParaRPr b="0" lang="en-US" sz="20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any variable on the right-hand side is missing then the new variable will be missing</a:t>
            </a:r>
            <a:endParaRPr b="0" lang="en-US" sz="20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direct assignments</a:t>
            </a:r>
            <a:endParaRPr b="0" lang="en-US" sz="24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age &lt; 50 then young = 1; else young=2;</a:t>
            </a:r>
            <a:endParaRPr b="0" lang="en-US" sz="20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variables are initialized to missing but may be given a value if any of the IF statements are tr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Value to Set New Variable</a:t>
            </a:r>
            <a:endParaRPr b="0" lang="en-US" sz="3200" spc="-1" strike="noStrike">
              <a:solidFill>
                <a:srgbClr val="000000"/>
              </a:solidFill>
              <a:latin typeface="Times New Roman"/>
            </a:endParaRPr>
          </a:p>
        </p:txBody>
      </p:sp>
      <p:sp>
        <p:nvSpPr>
          <p:cNvPr id="86" name=""/>
          <p:cNvSpPr/>
          <p:nvPr/>
        </p:nvSpPr>
        <p:spPr>
          <a:xfrm>
            <a:off x="685800" y="1600200"/>
            <a:ext cx="8229600" cy="26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1;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2;</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1;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0;</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YES’;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NO’;</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304920"/>
            <a:ext cx="8610480" cy="582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Program 6 SAS Func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NFILE</a:t>
            </a:r>
            <a:r>
              <a:rPr b="1" lang="en-US" sz="2400" spc="-1" strike="noStrike">
                <a:solidFill>
                  <a:srgbClr val="000000"/>
                </a:solidFill>
                <a:latin typeface="Courier New"/>
              </a:rPr>
              <a:t> </a:t>
            </a:r>
            <a:r>
              <a:rPr b="1" lang="en-US" sz="2400" spc="-1" strike="noStrike">
                <a:solidFill>
                  <a:srgbClr val="800080"/>
                </a:solidFill>
                <a:latin typeface="Courier New"/>
              </a:rPr>
              <a:t>‘C:\SAS_Files\tomhs.data'</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NPUT</a:t>
            </a:r>
            <a:r>
              <a:rPr b="1" lang="en-US" sz="2400" spc="-1" strike="noStrike">
                <a:solidFill>
                  <a:srgbClr val="000000"/>
                </a:solidFill>
                <a:latin typeface="Courier New"/>
              </a:rPr>
              <a:t>  @</a:t>
            </a:r>
            <a:r>
              <a:rPr b="1" lang="en-US" sz="2400" spc="-1" strike="noStrike">
                <a:solidFill>
                  <a:srgbClr val="008080"/>
                </a:solidFill>
                <a:latin typeface="Courier New"/>
              </a:rPr>
              <a:t>058</a:t>
            </a:r>
            <a:r>
              <a:rPr b="1" lang="en-US" sz="2400" spc="-1" strike="noStrike">
                <a:solidFill>
                  <a:srgbClr val="000000"/>
                </a:solidFill>
                <a:latin typeface="Courier New"/>
              </a:rPr>
              <a:t> height </a:t>
            </a:r>
            <a:r>
              <a:rPr b="1" lang="en-US" sz="2400" spc="-1" strike="noStrike">
                <a:solidFill>
                  <a:srgbClr val="008080"/>
                </a:solidFill>
                <a:latin typeface="Courier New"/>
              </a:rPr>
              <a:t>4.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085</a:t>
            </a:r>
            <a:r>
              <a:rPr b="1" lang="en-US" sz="2400" spc="-1" strike="noStrike">
                <a:solidFill>
                  <a:srgbClr val="000000"/>
                </a:solidFill>
                <a:latin typeface="Courier New"/>
              </a:rPr>
              <a:t> weight </a:t>
            </a:r>
            <a:r>
              <a:rPr b="1" lang="en-US" sz="2400" spc="-1" strike="noStrike">
                <a:solidFill>
                  <a:srgbClr val="008080"/>
                </a:solidFill>
                <a:latin typeface="Courier New"/>
              </a:rPr>
              <a:t>5.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72</a:t>
            </a:r>
            <a:r>
              <a:rPr b="1" lang="en-US" sz="2400" spc="-1" strike="noStrike">
                <a:solidFill>
                  <a:srgbClr val="000000"/>
                </a:solidFill>
                <a:latin typeface="Courier New"/>
              </a:rPr>
              <a:t> ursod  </a:t>
            </a:r>
            <a:r>
              <a:rPr b="1" lang="en-US" sz="2400" spc="-1" strike="noStrike">
                <a:solidFill>
                  <a:srgbClr val="008080"/>
                </a:solidFill>
                <a:latin typeface="Courier New"/>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236</a:t>
            </a:r>
            <a:r>
              <a:rPr b="1" lang="en-US" sz="2400" spc="-1" strike="noStrike">
                <a:solidFill>
                  <a:srgbClr val="000000"/>
                </a:solidFill>
                <a:latin typeface="Courier New"/>
              </a:rPr>
              <a:t> (se1-se10) (</a:t>
            </a:r>
            <a:r>
              <a:rPr b="1" lang="en-US" sz="2400" spc="-1" strike="noStrike">
                <a:solidFill>
                  <a:srgbClr val="008080"/>
                </a:solidFill>
                <a:latin typeface="Courier New"/>
              </a:rPr>
              <a:t>1.0</a:t>
            </a:r>
            <a:r>
              <a:rPr b="1" lang="en-US" sz="2400" spc="-1" strike="noStrike">
                <a:solidFill>
                  <a:srgbClr val="000000"/>
                </a:solidFill>
                <a:latin typeface="Courier New"/>
              </a:rPr>
              <a:t> + </a:t>
            </a:r>
            <a:r>
              <a:rPr b="1" lang="en-US" sz="2400" spc="-1" strike="noStrike">
                <a:solidFill>
                  <a:srgbClr val="008080"/>
                </a:solidFill>
                <a:latin typeface="Courier New"/>
              </a:rPr>
              <a:t>1</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mi    = (weight*</a:t>
            </a:r>
            <a:r>
              <a:rPr b="1" lang="en-US" sz="2400" spc="-1" strike="noStrike">
                <a:solidFill>
                  <a:srgbClr val="008080"/>
                </a:solidFill>
                <a:latin typeface="Courier New"/>
              </a:rPr>
              <a:t>703.0768</a:t>
            </a:r>
            <a:r>
              <a:rPr b="1" lang="en-US" sz="2400" spc="-1" strike="noStrike">
                <a:solidFill>
                  <a:srgbClr val="000000"/>
                </a:solidFill>
                <a:latin typeface="Courier New"/>
              </a:rPr>
              <a:t>)/(height*h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bmi1  = ROUND(bmi,</a:t>
            </a:r>
            <a:r>
              <a:rPr b="1" lang="en-US" sz="2400" spc="-1" strike="noStrike">
                <a:solidFill>
                  <a:srgbClr val="008080"/>
                </a:solidFill>
                <a:latin typeface="Courier New"/>
              </a:rPr>
              <a:t>1</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ursod = LOG(urs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avg = MEAN (OF se1-se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max = MAX  (OF se1-se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min = MIN  (OF se1-se10);</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04920"/>
            <a:ext cx="8915400" cy="57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Use of dash not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avg = MEAN (OF se1-se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This is the same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avg = MEAN (se1,se2,se3,se4,se5,se6,se7,se8,se9,se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a:t>
            </a:r>
            <a:r>
              <a:rPr b="1" lang="en-US" sz="2400" spc="-1" strike="noStrike" u="sng">
                <a:solidFill>
                  <a:srgbClr val="000000"/>
                </a:solidFill>
                <a:uFillTx/>
                <a:latin typeface="Courier New"/>
              </a:rPr>
              <a:t>OF</a:t>
            </a:r>
            <a:r>
              <a:rPr b="1" lang="en-US" sz="2400" spc="-1" strike="noStrike">
                <a:solidFill>
                  <a:srgbClr val="000000"/>
                </a:solidFill>
                <a:latin typeface="Courier New"/>
              </a:rPr>
              <a:t> is very important. Otherwise SAS thinks you are subtracting se10 from s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o use this notation the ROOT of the name must be the s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304920"/>
            <a:ext cx="8763120" cy="29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Two ways of computing averag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avg = MEAN (se1,se2,se3,se4,se5,se6,se7,se8,se9,se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Versu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avg = (se1+se2+se3+se4+se5+se6+se7+se8+se9+se10)/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 name=""/>
          <p:cNvSpPr/>
          <p:nvPr/>
        </p:nvSpPr>
        <p:spPr>
          <a:xfrm>
            <a:off x="380880" y="3352680"/>
            <a:ext cx="83059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ing mean function computes the average of non-missing values. Result is missing only if all values all miss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ing + formula requires all values be non-missing otherwise result will be missing</a:t>
            </a:r>
            <a:endParaRPr b="0" lang="en-US" sz="2000" spc="-1" strike="noStrike">
              <a:solidFill>
                <a:srgbClr val="000000"/>
              </a:solidFill>
              <a:latin typeface="Times New Roman"/>
            </a:endParaRPr>
          </a:p>
        </p:txBody>
      </p:sp>
      <p:sp>
        <p:nvSpPr>
          <p:cNvPr id="91" name=""/>
          <p:cNvSpPr/>
          <p:nvPr/>
        </p:nvSpPr>
        <p:spPr>
          <a:xfrm>
            <a:off x="533520" y="5680080"/>
            <a:ext cx="8381880" cy="862560"/>
          </a:xfrm>
          <a:prstGeom prst="rect">
            <a:avLst/>
          </a:prstGeom>
          <a:noFill/>
          <a:ln w="19080">
            <a:solidFill>
              <a:srgbClr val="00008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N(of se1-se10) &gt; 5 then seavg = MEAN(of se1-se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at does this statement 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304920"/>
            <a:ext cx="85345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example (</a:t>
            </a:r>
            <a:r>
              <a:rPr b="1" lang="en-US" sz="2000" spc="-1" strike="noStrike">
                <a:solidFill>
                  <a:srgbClr val="0000ff"/>
                </a:solidFill>
                <a:latin typeface="Courier New"/>
              </a:rPr>
              <a:t>OBS</a:t>
            </a:r>
            <a:r>
              <a:rPr b="1" lang="en-US" sz="2000" spc="-1" strike="noStrike">
                <a:solidFill>
                  <a:srgbClr val="000000"/>
                </a:solidFill>
                <a:latin typeface="Courier New"/>
              </a:rPr>
              <a:t>=</a:t>
            </a:r>
            <a:r>
              <a:rPr b="1" lang="en-US" sz="2000" spc="-1" strike="noStrike">
                <a:solidFill>
                  <a:srgbClr val="008080"/>
                </a:solidFill>
                <a:latin typeface="Courier New"/>
              </a:rPr>
              <a:t>15</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mi rbmi1 rbmi2 seavg semin sema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Listing of Selected Data for 15 Patients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FREQ</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ABLES</a:t>
            </a:r>
            <a:r>
              <a:rPr b="1" lang="en-US" sz="2000" spc="-1" strike="noStrike">
                <a:solidFill>
                  <a:srgbClr val="000000"/>
                </a:solidFill>
                <a:latin typeface="Courier New"/>
              </a:rPr>
              <a:t> sem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Distribution of Worse Side Effect Valu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2</a:t>
            </a:r>
            <a:r>
              <a:rPr b="1" lang="en-US" sz="2000" spc="-1" strike="noStrike">
                <a:solidFill>
                  <a:srgbClr val="000000"/>
                </a:solidFill>
                <a:latin typeface="Courier New"/>
              </a:rPr>
              <a:t> </a:t>
            </a:r>
            <a:r>
              <a:rPr b="1" lang="en-US" sz="2000" spc="-1" strike="noStrike">
                <a:solidFill>
                  <a:srgbClr val="800080"/>
                </a:solidFill>
                <a:latin typeface="Courier New"/>
              </a:rPr>
              <a:t>'Side Effect Scores Range from 1 to 4'</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MS Sans Serif"/>
              </a:rPr>
              <a:t>ods</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graphics</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o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PROC</a:t>
            </a: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UNIVARIATE</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DATA</a:t>
            </a:r>
            <a:r>
              <a:rPr b="1" lang="en-US" sz="2000" spc="-1" strike="noStrike">
                <a:solidFill>
                  <a:srgbClr val="000000"/>
                </a:solidFill>
                <a:latin typeface="Courier New"/>
                <a:ea typeface="MS Sans Serif"/>
              </a:rPr>
              <a:t> =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VAR</a:t>
            </a:r>
            <a:r>
              <a:rPr b="1" lang="en-US" sz="2000" spc="-1" strike="noStrike">
                <a:solidFill>
                  <a:srgbClr val="000000"/>
                </a:solidFill>
                <a:latin typeface="Courier New"/>
                <a:ea typeface="MS Sans Serif"/>
              </a:rPr>
              <a:t> ursod lurs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QQPLOT</a:t>
            </a:r>
            <a:r>
              <a:rPr b="1" lang="en-US" sz="2000" spc="-1" strike="noStrike">
                <a:solidFill>
                  <a:srgbClr val="000000"/>
                </a:solidFill>
                <a:latin typeface="Courier New"/>
                <a:ea typeface="MS Sans Serif"/>
              </a:rPr>
              <a:t> ursod lurs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ITLE</a:t>
            </a:r>
            <a:r>
              <a:rPr b="1" lang="en-US" sz="2000" spc="-1" strike="noStrike">
                <a:solidFill>
                  <a:srgbClr val="000000"/>
                </a:solidFill>
                <a:latin typeface="Courier New"/>
                <a:ea typeface="MS Sans Serif"/>
              </a:rPr>
              <a:t> </a:t>
            </a:r>
            <a:r>
              <a:rPr b="1" lang="en-US" sz="2000" spc="-1" strike="noStrike">
                <a:solidFill>
                  <a:srgbClr val="800080"/>
                </a:solidFill>
                <a:latin typeface="Courier New"/>
                <a:ea typeface="MS Sans Serif"/>
              </a:rPr>
              <a:t>'Quantile Plots for Urine Sodium Data'</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457200"/>
            <a:ext cx="8534160" cy="63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Listing of Selected Data for 10 Patient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s      bmi      rbmi1      seavg    semin    sema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28.2620      28        1.1       1        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35.9963      36        1.0       1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27.0489      27        1.0       1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28.2620      28        1.1       1        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33.2008      33        1.0       1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27.7691      28        1.2       1        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32.6040      33        1.0       1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    22.4057      22        1.2       1        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37.2037      37        1.1       1        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33.1717      33        1.7       1        3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New Variables</a:t>
            </a:r>
            <a:endParaRPr b="0" lang="en-US" sz="2800" spc="-1" strike="noStrike">
              <a:solidFill>
                <a:srgbClr val="000000"/>
              </a:solidFill>
              <a:latin typeface="Times New Roman"/>
            </a:endParaRPr>
          </a:p>
        </p:txBody>
      </p:sp>
      <p:sp>
        <p:nvSpPr>
          <p:cNvPr id="51"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irect assignments(formul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 a + b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2*a + 3*b + 7*c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mi = weight/(height*height);</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direct assignments (if/then/else)</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age &lt; 50 then young = 1; else young = 2;</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income &lt; 15 then tax = 1; els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income &lt; 25 then tax = 2; els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income &gt;=25 then tax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457200"/>
            <a:ext cx="8534160" cy="527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Distribution of Worse Side Effect Val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Side Effect Scores Ranges from 1 to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The FREQ Procedure</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mulative    Cumul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max    Frequency     Percent     Frequency      Perc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33       33.00            33        33.0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52       52.00            85        85.0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13       13.00            98        98.0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2        2.00           100       100.00 </a:t>
            </a:r>
            <a:endParaRPr b="0" lang="en-US" sz="1800" spc="-1" strike="noStrike">
              <a:solidFill>
                <a:srgbClr val="000000"/>
              </a:solidFill>
              <a:latin typeface="Times New Roman"/>
            </a:endParaRPr>
          </a:p>
        </p:txBody>
      </p:sp>
      <p:sp>
        <p:nvSpPr>
          <p:cNvPr id="95" name=""/>
          <p:cNvSpPr/>
          <p:nvPr/>
        </p:nvSpPr>
        <p:spPr>
          <a:xfrm>
            <a:off x="2362320" y="5257800"/>
            <a:ext cx="609480" cy="380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981080" y="594360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2 patients had at least 1 severe side eff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457200"/>
            <a:ext cx="8534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 name="" descr=""/>
          <p:cNvPicPr/>
          <p:nvPr/>
        </p:nvPicPr>
        <p:blipFill>
          <a:blip r:embed="rId1"/>
          <a:stretch/>
        </p:blipFill>
        <p:spPr>
          <a:xfrm>
            <a:off x="2666880" y="4038480"/>
            <a:ext cx="2743200" cy="2057400"/>
          </a:xfrm>
          <a:prstGeom prst="rect">
            <a:avLst/>
          </a:prstGeom>
          <a:ln w="0">
            <a:noFill/>
          </a:ln>
        </p:spPr>
      </p:pic>
      <p:pic>
        <p:nvPicPr>
          <p:cNvPr id="99" name="" descr=""/>
          <p:cNvPicPr/>
          <p:nvPr/>
        </p:nvPicPr>
        <p:blipFill>
          <a:blip r:embed="rId2"/>
          <a:stretch/>
        </p:blipFill>
        <p:spPr>
          <a:xfrm>
            <a:off x="2666880" y="1143000"/>
            <a:ext cx="2743200" cy="2057400"/>
          </a:xfrm>
          <a:prstGeom prst="rect">
            <a:avLst/>
          </a:prstGeom>
          <a:ln w="0">
            <a:noFill/>
          </a:ln>
        </p:spPr>
      </p:pic>
      <p:sp>
        <p:nvSpPr>
          <p:cNvPr id="100" name=""/>
          <p:cNvSpPr/>
          <p:nvPr/>
        </p:nvSpPr>
        <p:spPr>
          <a:xfrm>
            <a:off x="4724280" y="3352680"/>
            <a:ext cx="3810240" cy="58068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Log transformed value shows a better linear patter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 Assignments</a:t>
            </a:r>
            <a:br>
              <a:rPr sz="2800"/>
            </a:br>
            <a:r>
              <a:rPr b="1" lang="en-US" sz="2800" spc="-1" strike="noStrike">
                <a:solidFill>
                  <a:srgbClr val="000000"/>
                </a:solidFill>
                <a:latin typeface="Times New Roman"/>
              </a:rPr>
              <a:t>(Formulas)</a:t>
            </a:r>
            <a:endParaRPr b="0" lang="en-US" sz="2800" spc="-1" strike="noStrike">
              <a:solidFill>
                <a:srgbClr val="000000"/>
              </a:solidFill>
              <a:latin typeface="Times New Roman"/>
            </a:endParaRPr>
          </a:p>
        </p:txBody>
      </p:sp>
      <p:sp>
        <p:nvSpPr>
          <p:cNvPr id="53"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Examp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 = a +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 if a = 2, b =3, c = </a:t>
            </a:r>
            <a:r>
              <a:rPr b="1" lang="en-US" sz="2800" spc="-1" strike="noStrike">
                <a:solidFill>
                  <a:srgbClr val="3333cc"/>
                </a:solidFill>
                <a:latin typeface="Courier New"/>
              </a:rPr>
              <a:t>5</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a is missing, what is c? C will be missing</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What if b is mi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then/else Statements</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ith </a:t>
            </a:r>
            <a:r>
              <a:rPr b="1" lang="en-US" sz="2400" spc="-1" strike="noStrike" u="sng">
                <a:solidFill>
                  <a:srgbClr val="008000"/>
                </a:solidFill>
                <a:uFillTx/>
                <a:latin typeface="Courier New"/>
              </a:rPr>
              <a:t>if-then-else</a:t>
            </a:r>
            <a:r>
              <a:rPr b="1" lang="en-US" sz="2400" spc="-1" strike="noStrike">
                <a:solidFill>
                  <a:srgbClr val="008000"/>
                </a:solidFill>
                <a:latin typeface="Courier New"/>
              </a:rPr>
              <a:t> definitions SAS stops executing after the first true statement</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lt; 15 then tax = 1; else</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lt; 25 then tax = 2; else</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gt;=25 then tax = 3;</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10?</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23?</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30?</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missing?</a:t>
            </a:r>
            <a:endParaRPr b="0" lang="en-US" sz="2800" spc="-1" strike="noStrike">
              <a:solidFill>
                <a:srgbClr val="000000"/>
              </a:solidFill>
              <a:latin typeface="Times New Roman"/>
            </a:endParaRPr>
          </a:p>
        </p:txBody>
      </p:sp>
      <p:sp>
        <p:nvSpPr>
          <p:cNvPr id="56" name=""/>
          <p:cNvSpPr/>
          <p:nvPr/>
        </p:nvSpPr>
        <p:spPr>
          <a:xfrm>
            <a:off x="7010280" y="4343400"/>
            <a:ext cx="1828800" cy="17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2</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3</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895320"/>
            <a:ext cx="8534160" cy="3409920"/>
          </a:xfrm>
          <a:prstGeom prst="rect">
            <a:avLst/>
          </a:prstGeom>
          <a:ln w="0">
            <a:noFill/>
          </a:ln>
        </p:spPr>
      </p:pic>
      <p:sp>
        <p:nvSpPr>
          <p:cNvPr id="58" name=""/>
          <p:cNvSpPr/>
          <p:nvPr/>
        </p:nvSpPr>
        <p:spPr>
          <a:xfrm>
            <a:off x="152280" y="5029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AS Monospace"/>
              </a:rPr>
              <a:t>Create a new variable with 2 levels, one for college graduates and one for non-college graduates.</a:t>
            </a:r>
            <a:endParaRPr b="0" lang="en-US" sz="2400" spc="-1" strike="noStrike">
              <a:solidFill>
                <a:srgbClr val="000000"/>
              </a:solidFill>
              <a:latin typeface="Times New Roman"/>
            </a:endParaRPr>
          </a:p>
        </p:txBody>
      </p:sp>
      <p:sp>
        <p:nvSpPr>
          <p:cNvPr id="59" name=""/>
          <p:cNvSpPr/>
          <p:nvPr/>
        </p:nvSpPr>
        <p:spPr>
          <a:xfrm>
            <a:off x="380880" y="14436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AS Monospace"/>
              </a:rPr>
              <a:t>Creating New Variables</a:t>
            </a:r>
            <a:endParaRPr b="0" lang="en-US" sz="2400" spc="-1" strike="noStrike">
              <a:solidFill>
                <a:srgbClr val="000000"/>
              </a:solidFill>
              <a:latin typeface="Times New Roman"/>
            </a:endParaRPr>
          </a:p>
        </p:txBody>
      </p:sp>
      <p:sp>
        <p:nvSpPr>
          <p:cNvPr id="60" name=""/>
          <p:cNvSpPr/>
          <p:nvPr/>
        </p:nvSpPr>
        <p:spPr>
          <a:xfrm>
            <a:off x="1143000" y="3352680"/>
            <a:ext cx="182520" cy="182520"/>
          </a:xfrm>
          <a:prstGeom prst="rect">
            <a:avLst/>
          </a:prstGeom>
          <a:solidFill>
            <a:srgbClr val="cc0000"/>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3000" y="3581280"/>
            <a:ext cx="182520" cy="182520"/>
          </a:xfrm>
          <a:prstGeom prst="rect">
            <a:avLst/>
          </a:prstGeom>
          <a:solidFill>
            <a:srgbClr val="cc0000"/>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143000" y="3886200"/>
            <a:ext cx="182520" cy="182520"/>
          </a:xfrm>
          <a:prstGeom prst="rect">
            <a:avLst/>
          </a:prstGeom>
          <a:solidFill>
            <a:srgbClr val="cc0000"/>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52280"/>
            <a:ext cx="8305560" cy="64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gram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FILE</a:t>
            </a:r>
            <a:r>
              <a:rPr b="1" lang="en-US" sz="2000" spc="-1" strike="noStrike">
                <a:solidFill>
                  <a:srgbClr val="000000"/>
                </a:solidFill>
                <a:latin typeface="Courier New"/>
              </a:rPr>
              <a:t> </a:t>
            </a:r>
            <a:r>
              <a:rPr b="1" lang="en-US" sz="2000" spc="-1" strike="noStrike">
                <a:solidFill>
                  <a:srgbClr val="800080"/>
                </a:solidFill>
                <a:latin typeface="Courier New"/>
              </a:rPr>
              <a:t>‘C:\SAS_Files\tomhs.data'</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8080"/>
                </a:solidFill>
                <a:latin typeface="Courier New"/>
              </a:rPr>
              <a:t>1</a:t>
            </a:r>
            <a:r>
              <a:rPr b="1" lang="en-US" sz="2000" spc="-1" strike="noStrike">
                <a:solidFill>
                  <a:srgbClr val="000000"/>
                </a:solidFill>
                <a:latin typeface="Courier New"/>
              </a:rPr>
              <a:t>  ptid   </a:t>
            </a:r>
            <a:r>
              <a:rPr b="1" lang="en-US" sz="2000" spc="-1" strike="noStrike">
                <a:solidFill>
                  <a:srgbClr val="008080"/>
                </a:solidFill>
                <a:latin typeface="Courier New"/>
              </a:rPr>
              <a:t>$10.</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8080"/>
                </a:solidFill>
                <a:latin typeface="Courier New"/>
              </a:rPr>
              <a:t>49</a:t>
            </a:r>
            <a:r>
              <a:rPr b="1" lang="en-US" sz="2000" spc="-1" strike="noStrike">
                <a:solidFill>
                  <a:srgbClr val="000000"/>
                </a:solidFill>
                <a:latin typeface="Courier New"/>
              </a:rPr>
              <a:t>  educ     </a:t>
            </a:r>
            <a:r>
              <a:rPr b="1" lang="en-US" sz="2000" spc="-1" strike="noStrike">
                <a:solidFill>
                  <a:srgbClr val="008080"/>
                </a:solidFill>
                <a:latin typeface="Courier New"/>
              </a:rPr>
              <a:t>1.</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123</a:t>
            </a:r>
            <a:r>
              <a:rPr b="1" lang="en-US" sz="2000" spc="-1" strike="noStrike">
                <a:solidFill>
                  <a:srgbClr val="000000"/>
                </a:solidFill>
                <a:latin typeface="Courier New"/>
              </a:rPr>
              <a:t>  sbp12    </a:t>
            </a:r>
            <a:r>
              <a:rPr b="1" lang="en-US" sz="2000" spc="-1" strike="noStrike">
                <a:solidFill>
                  <a:srgbClr val="008080"/>
                </a:solidFill>
                <a:latin typeface="Courier New"/>
              </a:rPr>
              <a:t>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This way will code missing values to the valu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lt; </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1 = </a:t>
            </a:r>
            <a:r>
              <a:rPr b="1" lang="en-US" sz="2000" spc="-1" strike="noStrike">
                <a:solidFill>
                  <a:srgbClr val="008080"/>
                </a:solidFill>
                <a:latin typeface="Courier New"/>
              </a:rPr>
              <a:t>2</a:t>
            </a:r>
            <a:r>
              <a:rPr b="1" lang="en-US" sz="2000" spc="-1" strike="noStrike">
                <a:solidFill>
                  <a:srgbClr val="000000"/>
                </a:solidFill>
                <a:latin typeface="Courier New"/>
              </a:rPr>
              <a:t> ; </a:t>
            </a:r>
            <a:r>
              <a:rPr b="1" lang="en-US" sz="2000" spc="-1" strike="noStrike">
                <a:solidFill>
                  <a:srgbClr val="0000ff"/>
                </a:solidFill>
                <a:latin typeface="Courier New"/>
                <a:ea typeface="MS Sans Serif"/>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gt;=</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1 = </a:t>
            </a:r>
            <a:r>
              <a:rPr b="1" lang="en-US" sz="2000" spc="-1" strike="noStrike">
                <a:solidFill>
                  <a:srgbClr val="008080"/>
                </a:solidFill>
                <a:latin typeface="Courier New"/>
              </a:rPr>
              <a:t>1</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The next two ways are equivalent and are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lt; </a:t>
            </a:r>
            <a:r>
              <a:rPr b="1" lang="en-US" sz="2000" spc="-1" strike="noStrike">
                <a:solidFill>
                  <a:srgbClr val="008080"/>
                </a:solidFill>
                <a:latin typeface="Courier New"/>
              </a:rPr>
              <a:t>7</a:t>
            </a:r>
            <a:r>
              <a:rPr b="1" lang="en-US" sz="2000" spc="-1" strike="noStrike">
                <a:solidFill>
                  <a:srgbClr val="000000"/>
                </a:solidFill>
                <a:latin typeface="Courier New"/>
              </a:rPr>
              <a:t> and educ ne </a:t>
            </a:r>
            <a:r>
              <a:rPr b="1" lang="en-US" sz="2000" spc="-1" strike="noStrike">
                <a:solidFill>
                  <a:srgbClr val="008080"/>
                </a:solidFill>
                <a:latin typeface="Courier New"/>
              </a:rPr>
              <a:t>.</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2 = </a:t>
            </a:r>
            <a:r>
              <a:rPr b="1" lang="en-US" sz="2000" spc="-1" strike="noStrike">
                <a:solidFill>
                  <a:srgbClr val="008080"/>
                </a:solidFill>
                <a:latin typeface="Courier New"/>
              </a:rPr>
              <a:t>2</a:t>
            </a:r>
            <a:r>
              <a:rPr b="1" lang="en-US" sz="2000" spc="-1" strike="noStrike">
                <a:solidFill>
                  <a:srgbClr val="000000"/>
                </a:solidFill>
                <a:latin typeface="Courier New"/>
              </a:rPr>
              <a:t>; </a:t>
            </a:r>
            <a:r>
              <a:rPr b="1" lang="en-US" sz="2000" spc="-1" strike="noStrike">
                <a:solidFill>
                  <a:srgbClr val="0000ff"/>
                </a:solidFill>
                <a:latin typeface="Courier New"/>
                <a:ea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gt;=</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2 = </a:t>
            </a:r>
            <a:r>
              <a:rPr b="1" lang="en-US" sz="2000" spc="-1" strike="noStrike">
                <a:solidFill>
                  <a:srgbClr val="008080"/>
                </a:solidFill>
                <a:latin typeface="Courier New"/>
              </a:rPr>
              <a:t>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IN is a useful function in S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IN(</a:t>
            </a:r>
            <a:r>
              <a:rPr b="1" lang="en-US" sz="2000" spc="-1" strike="noStrike">
                <a:solidFill>
                  <a:srgbClr val="008080"/>
                </a:solidFill>
                <a:latin typeface="Courier New"/>
              </a:rPr>
              <a:t>1</a:t>
            </a:r>
            <a:r>
              <a:rPr b="1" lang="en-US" sz="2000" spc="-1" strike="noStrike">
                <a:solidFill>
                  <a:srgbClr val="000000"/>
                </a:solidFill>
                <a:latin typeface="Courier New"/>
              </a:rPr>
              <a:t>,</a:t>
            </a:r>
            <a:r>
              <a:rPr b="1" lang="en-US" sz="2000" spc="-1" strike="noStrike">
                <a:solidFill>
                  <a:srgbClr val="008080"/>
                </a:solidFill>
                <a:latin typeface="Courier New"/>
              </a:rPr>
              <a:t>2</a:t>
            </a:r>
            <a:r>
              <a:rPr b="1" lang="en-US" sz="2000" spc="-1" strike="noStrike">
                <a:solidFill>
                  <a:srgbClr val="000000"/>
                </a:solidFill>
                <a:latin typeface="Courier New"/>
              </a:rPr>
              <a:t>,</a:t>
            </a:r>
            <a:r>
              <a:rPr b="1" lang="en-US" sz="2000" spc="-1" strike="noStrike">
                <a:solidFill>
                  <a:srgbClr val="008080"/>
                </a:solidFill>
                <a:latin typeface="Courier New"/>
              </a:rPr>
              <a:t>3</a:t>
            </a:r>
            <a:r>
              <a:rPr b="1" lang="en-US" sz="2000" spc="-1" strike="noStrike">
                <a:solidFill>
                  <a:srgbClr val="000000"/>
                </a:solidFill>
                <a:latin typeface="Courier New"/>
              </a:rPr>
              <a:t>,</a:t>
            </a:r>
            <a:r>
              <a:rPr b="1" lang="en-US" sz="2000" spc="-1" strike="noStrike">
                <a:solidFill>
                  <a:srgbClr val="008080"/>
                </a:solidFill>
                <a:latin typeface="Courier New"/>
              </a:rPr>
              <a:t>4</a:t>
            </a:r>
            <a:r>
              <a:rPr b="1" lang="en-US" sz="2000" spc="-1" strike="noStrike">
                <a:solidFill>
                  <a:srgbClr val="000000"/>
                </a:solidFill>
                <a:latin typeface="Courier New"/>
              </a:rPr>
              <a:t>,</a:t>
            </a:r>
            <a:r>
              <a:rPr b="1" lang="en-US" sz="2000" spc="-1" strike="noStrike">
                <a:solidFill>
                  <a:srgbClr val="008080"/>
                </a:solidFill>
                <a:latin typeface="Courier New"/>
              </a:rPr>
              <a:t>5</a:t>
            </a:r>
            <a:r>
              <a:rPr b="1" lang="en-US" sz="2000" spc="-1" strike="noStrike">
                <a:solidFill>
                  <a:srgbClr val="000000"/>
                </a:solidFill>
                <a:latin typeface="Courier New"/>
              </a:rPr>
              <a:t>,</a:t>
            </a:r>
            <a:r>
              <a:rPr b="1" lang="en-US" sz="2000" spc="-1" strike="noStrike">
                <a:solidFill>
                  <a:srgbClr val="008080"/>
                </a:solidFill>
                <a:latin typeface="Courier New"/>
              </a:rPr>
              <a:t>6</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3 = </a:t>
            </a:r>
            <a:r>
              <a:rPr b="1" lang="en-US" sz="2000" spc="-1" strike="noStrike">
                <a:solidFill>
                  <a:srgbClr val="008080"/>
                </a:solidFill>
                <a:latin typeface="Courier New"/>
              </a:rPr>
              <a:t>2</a:t>
            </a:r>
            <a:r>
              <a:rPr b="1" lang="en-US" sz="2000" spc="-1" strike="noStrike">
                <a:solidFill>
                  <a:srgbClr val="000000"/>
                </a:solidFill>
                <a:latin typeface="Courier New"/>
              </a:rPr>
              <a:t>; </a:t>
            </a:r>
            <a:r>
              <a:rPr b="1" lang="en-US" sz="2000" spc="-1" strike="noStrike">
                <a:solidFill>
                  <a:srgbClr val="0000ff"/>
                </a:solidFill>
                <a:latin typeface="Courier New"/>
                <a:ea typeface="MS Sans Serif"/>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IN(</a:t>
            </a:r>
            <a:r>
              <a:rPr b="1" lang="en-US" sz="2000" spc="-1" strike="noStrike">
                <a:solidFill>
                  <a:srgbClr val="008080"/>
                </a:solidFill>
                <a:latin typeface="Courier New"/>
              </a:rPr>
              <a:t>7</a:t>
            </a:r>
            <a:r>
              <a:rPr b="1" lang="en-US" sz="2000" spc="-1" strike="noStrike">
                <a:solidFill>
                  <a:srgbClr val="000000"/>
                </a:solidFill>
                <a:latin typeface="Courier New"/>
              </a:rPr>
              <a:t>,</a:t>
            </a:r>
            <a:r>
              <a:rPr b="1" lang="en-US" sz="2000" spc="-1" strike="noStrike">
                <a:solidFill>
                  <a:srgbClr val="008080"/>
                </a:solidFill>
                <a:latin typeface="Courier New"/>
              </a:rPr>
              <a:t>8</a:t>
            </a:r>
            <a:r>
              <a:rPr b="1" lang="en-US" sz="2000" spc="-1" strike="noStrike">
                <a:solidFill>
                  <a:srgbClr val="000000"/>
                </a:solidFill>
                <a:latin typeface="Courier New"/>
              </a:rPr>
              <a:t>,</a:t>
            </a:r>
            <a:r>
              <a:rPr b="1" lang="en-US" sz="2000" spc="-1" strike="noStrike">
                <a:solidFill>
                  <a:srgbClr val="008080"/>
                </a:solidFill>
                <a:latin typeface="Courier New"/>
              </a:rPr>
              <a:t>9</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3 = </a:t>
            </a:r>
            <a:r>
              <a:rPr b="1" lang="en-US" sz="2000" spc="-1" strike="noStrike">
                <a:solidFill>
                  <a:srgbClr val="008080"/>
                </a:solidFill>
                <a:latin typeface="Courier New"/>
              </a:rPr>
              <a:t>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flipH="1">
            <a:off x="3733560" y="175248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800600" y="1447920"/>
            <a:ext cx="3962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ariable defines go after the input stat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52280"/>
            <a:ext cx="830556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FREQ</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t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ABLES</a:t>
            </a:r>
            <a:r>
              <a:rPr b="1" lang="en-US" sz="2000" spc="-1" strike="noStrike">
                <a:solidFill>
                  <a:srgbClr val="000000"/>
                </a:solidFill>
                <a:latin typeface="Courier New"/>
              </a:rPr>
              <a:t> educ grad1 grad2 grad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educ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3        3.03             3         3.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3           4        4.04             7         7.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          23       23.23            30        30.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5          14       14.14            44        44.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6          12       12.12            56        56.5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7          16       16.16            72        72.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          10       10.10            82        82.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9          17       17.1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1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00            43        43.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7       57.00           100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2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43            43        43.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6       56.5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3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43            43        43.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6       56.5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endParaRPr b="0" lang="en-US" sz="1000" spc="-1" strike="noStrike">
              <a:solidFill>
                <a:srgbClr val="000000"/>
              </a:solidFill>
              <a:latin typeface="Times New Roman"/>
            </a:endParaRPr>
          </a:p>
        </p:txBody>
      </p:sp>
      <p:sp>
        <p:nvSpPr>
          <p:cNvPr id="67" name=""/>
          <p:cNvSpPr/>
          <p:nvPr/>
        </p:nvSpPr>
        <p:spPr>
          <a:xfrm>
            <a:off x="4952880" y="38862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95880" y="350532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Coded the missing  value for educ to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152280"/>
            <a:ext cx="8305560" cy="66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PROC</a:t>
            </a: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FREQ</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DATA</a:t>
            </a:r>
            <a:r>
              <a:rPr b="1" lang="en-US" sz="2000" spc="-1" strike="noStrike">
                <a:solidFill>
                  <a:srgbClr val="000000"/>
                </a:solidFill>
                <a:latin typeface="Courier New"/>
                <a:ea typeface="MS Sans Serif"/>
              </a:rPr>
              <a:t>=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ABLES</a:t>
            </a:r>
            <a:r>
              <a:rPr b="1" lang="en-US" sz="2000" spc="-1" strike="noStrike">
                <a:solidFill>
                  <a:srgbClr val="000000"/>
                </a:solidFill>
                <a:latin typeface="Courier New"/>
                <a:ea typeface="MS Sans Serif"/>
              </a:rPr>
              <a:t> educ*grad1 /</a:t>
            </a:r>
            <a:r>
              <a:rPr b="1" lang="en-US" sz="2000" spc="-1" strike="noStrike">
                <a:solidFill>
                  <a:srgbClr val="0000ff"/>
                </a:solidFill>
                <a:latin typeface="Courier New"/>
                <a:ea typeface="MS Sans Serif"/>
              </a:rPr>
              <a:t>MISSING</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NOCUM</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NOPERCENT</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NOROW</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NOCOL</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ITLE</a:t>
            </a:r>
            <a:r>
              <a:rPr b="1" lang="en-US" sz="2000" spc="-1" strike="noStrike">
                <a:solidFill>
                  <a:srgbClr val="000000"/>
                </a:solidFill>
                <a:latin typeface="Courier New"/>
                <a:ea typeface="MS Sans Serif"/>
              </a:rPr>
              <a:t> </a:t>
            </a:r>
            <a:r>
              <a:rPr b="1" lang="en-US" sz="2000" spc="-1" strike="noStrike">
                <a:solidFill>
                  <a:srgbClr val="800080"/>
                </a:solidFill>
                <a:latin typeface="Courier New"/>
                <a:ea typeface="MS Sans Serif"/>
              </a:rPr>
              <a:t>'Use Crosstabulation to Verify Recoding'</a:t>
            </a:r>
            <a:r>
              <a:rPr b="1" lang="en-US" sz="2000" spc="-1" strike="noStrike">
                <a:solidFill>
                  <a:srgbClr val="000000"/>
                </a:solidFill>
                <a:latin typeface="Courier New"/>
                <a:ea typeface="MS Sans Serif"/>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Table of educ by gra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educ      gra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Frequency‚       1‚       2‚  To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 ‚      0 ‚      1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 ‚      0 ‚      3 ‚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3 ‚      0 ‚      4 ‚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4 ‚      0 ‚     23 ‚     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5 ‚      0 ‚     14 ‚     1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6 ‚      0 ‚     12 ‚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7 ‚     16 ‚      0 ‚     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8 ‚     10 ‚      0 ‚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9 ‚     17 ‚      0 ‚     1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ƒƒƒƒƒƒƒƒƒˆƒƒƒƒƒƒƒƒˆƒƒƒƒƒƒƒƒ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Total          43       57      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                 </a:t>
            </a:r>
            <a:endParaRPr b="0" lang="en-US" sz="1200" spc="-1" strike="noStrike">
              <a:solidFill>
                <a:srgbClr val="000000"/>
              </a:solidFill>
              <a:latin typeface="Times New Roman"/>
            </a:endParaRPr>
          </a:p>
        </p:txBody>
      </p:sp>
      <p:sp>
        <p:nvSpPr>
          <p:cNvPr id="70" name=""/>
          <p:cNvSpPr/>
          <p:nvPr/>
        </p:nvSpPr>
        <p:spPr>
          <a:xfrm>
            <a:off x="4114800" y="3200400"/>
            <a:ext cx="1295280" cy="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715000" y="2819520"/>
            <a:ext cx="2895480" cy="1008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hows that the missing value for educ got assigned a value of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52280"/>
            <a:ext cx="8305560" cy="472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Recode sbp12 into 3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 </a:t>
            </a:r>
            <a:r>
              <a:rPr b="1" lang="en-US" sz="2400" spc="-1" strike="noStrike">
                <a:solidFill>
                  <a:srgbClr val="008080"/>
                </a:solidFill>
                <a:latin typeface="Courier New"/>
              </a:rPr>
              <a:t>.</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2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1</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2</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gt;=</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3</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ith </a:t>
            </a:r>
            <a:r>
              <a:rPr b="1" lang="en-US" sz="2400" spc="-1" strike="noStrike" u="sng">
                <a:solidFill>
                  <a:srgbClr val="008000"/>
                </a:solidFill>
                <a:uFillTx/>
                <a:latin typeface="Courier New"/>
              </a:rPr>
              <a:t>if-then-else</a:t>
            </a:r>
            <a:r>
              <a:rPr b="1" lang="en-US" sz="2400" spc="-1" strike="noStrike">
                <a:solidFill>
                  <a:srgbClr val="008000"/>
                </a:solidFill>
                <a:latin typeface="Courier New"/>
              </a:rPr>
              <a:t> definitions SAS stops executing after the first true stat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228600" y="411480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480" y="4495680"/>
            <a:ext cx="8001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lt; 120 will be assigned value of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120-139 will be assigned value of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gt;=140 will be assigned value of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issing values will be assigned to mi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20:00:20Z</dcterms:created>
  <dc:creator>Biostat/CCBR</dc:creator>
  <dc:description/>
  <dc:language>en-US</dc:language>
  <cp:lastModifiedBy>greg-g</cp:lastModifiedBy>
  <dcterms:modified xsi:type="dcterms:W3CDTF">2014-08-08T16:05:10Z</dcterms:modified>
  <cp:revision>249</cp:revision>
  <dc:subject/>
  <dc:title>No Slide Title</dc:title>
</cp:coreProperties>
</file>